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44B77-3CF5-4C4C-9913-819A31EF3F11}" type="slidenum">
              <a:rPr b="0" lang="pt-BR" sz="18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6880" y="4343040"/>
            <a:ext cx="5472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25483-C4E8-47F3-9030-B3340301FF1B}" type="slidenum">
              <a:rPr b="0" lang="pt-BR" sz="18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6880" y="4343040"/>
            <a:ext cx="5472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C473F-1C8D-4396-A5A3-DFB8D5C933C0}" type="slidenum">
              <a:rPr b="0" lang="pt-BR" sz="18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6880" y="4343040"/>
            <a:ext cx="5472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C4DC-2072-4193-90C3-C5BF0DAA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E4AB-DC67-48DD-ADDF-E6C735B1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465-3B73-4882-A85D-1B703FDB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11C-E38D-4507-843B-B2D432A7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BE0A-F953-42D7-B280-EBD7787F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504-1338-4D00-B2B9-1F642EE4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9847-1CA3-4A43-82E3-CCB4FA93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D4B0-0FE7-4101-AF44-776BE25F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CAE-14DB-4E94-8EF1-97C10E0A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8B0F-CC36-4ACD-B94C-95E8A46C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B1A-DE63-447F-B69D-1C5ECECA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9BF-338B-4D36-991C-7CDEC82C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C4B679-B0F0-456C-9CAF-B5675DF85B3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6" name="CaixaDeTexto 2"/>
          <p:cNvSpPr/>
          <p:nvPr/>
        </p:nvSpPr>
        <p:spPr>
          <a:xfrm>
            <a:off x="304920" y="309564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REUNIÃO DO CONSELHO NACIONAL DE PREVIDENCIA –CN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 Black"/>
              </a:rPr>
              <a:t>27/09/2018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80" name="CaixaDeTexto 2"/>
          <p:cNvSpPr/>
          <p:nvPr/>
        </p:nvSpPr>
        <p:spPr>
          <a:xfrm>
            <a:off x="304920" y="312408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Black"/>
              </a:rPr>
              <a:t>Apresentação sobre Resolução nº 656 do Instituto Nacional do Seguro Social, de 4 de setembro de 2018, referente bloqueio da margem do consignado por até 180 dias, prorrogáveis por mais 180 dia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etângulo 1"/>
          <p:cNvSpPr/>
          <p:nvPr/>
        </p:nvSpPr>
        <p:spPr>
          <a:xfrm>
            <a:off x="304920" y="838080"/>
            <a:ext cx="8534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INS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Diretoria de Benefício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Coordenação – Geral de Gerenciamento do Pagamento de Benefícios - CGGPB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83" name="Retângulo 4"/>
          <p:cNvSpPr/>
          <p:nvPr/>
        </p:nvSpPr>
        <p:spPr>
          <a:xfrm>
            <a:off x="380880" y="762120"/>
            <a:ext cx="8534520" cy="60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Motivação para publicação da Atual Resolu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ACP Pará nº 2008.39.00.003206-22200 (ACP/PA) – prevê a suspensão dos descontos relativos ao empréstimo consignado quando os aposentados e pensionistas  alegam não reconhecimento do contrat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Em cumprimento à Ação, regulamentado pelo Memorando-Circular nº 21/DIRBEN/CGBENEF de 04 de agosto de 2008 – as Agências da Previdência, por solicitação dos beneficiários, excluíam imediatamente o empréstimo e a margem era liberada, permitindo a contratação de novo empréstimo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85" name="Retângulo 4"/>
          <p:cNvSpPr/>
          <p:nvPr/>
        </p:nvSpPr>
        <p:spPr>
          <a:xfrm>
            <a:off x="380880" y="838080"/>
            <a:ext cx="838224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Motivação para publicação da Atual Resolu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pós as medidas tomadas houve crescente número de exclusões de empréstimos e contratação de nov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o final da apuração quando comprovada a autenticidade do contrato, não era possível a sua reativação devido a ocupação da margem consignável por novos empréstim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87" name="Retângulo 4"/>
          <p:cNvSpPr/>
          <p:nvPr/>
        </p:nvSpPr>
        <p:spPr>
          <a:xfrm>
            <a:off x="457200" y="7621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Motivação para publicação da Atual Resolu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Retângulo 2"/>
          <p:cNvSpPr/>
          <p:nvPr/>
        </p:nvSpPr>
        <p:spPr>
          <a:xfrm>
            <a:off x="228600" y="1523880"/>
            <a:ext cx="8610480" cy="59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m 2013 para aprimorar o cumprimento à ACP/PA, foi publicada a Resolução nº 321/PRES/INSS de 11/07/2013 – os contratos eram suspensos, porém  a margem ficava bloqueada por até 60 dias para apuração da regularidade de contrat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om a publicação da Resolução nº 321/2013, verificou-se que o prazo de bloqueio da margem mostrou-se insuficiente, dando vazão à má prática de suspensão de um contrato para inclusão de um novo, antes da apuração da veracidade do contrato contestad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8680" algn="just"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8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90" name="Retângulo 4"/>
          <p:cNvSpPr/>
          <p:nvPr/>
        </p:nvSpPr>
        <p:spPr>
          <a:xfrm>
            <a:off x="492120" y="7621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Motivação para publicação da Atual Resolu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Retângulo 1"/>
          <p:cNvSpPr/>
          <p:nvPr/>
        </p:nvSpPr>
        <p:spPr>
          <a:xfrm>
            <a:off x="228600" y="1219320"/>
            <a:ext cx="86454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 Parecer de Força Executória nº 00001/2018/NUPREV/PGPA/PGU/AGU, recomendou então a suspensão do desconto consignado e consequentemente o bloqueio da margem consignável até a finalização do procedimento administrativo de apuração de eventuais irregularidad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m complemento ao Parecer acima, foi editado o Parecer nº 00001/2018/SAADM/PFE-INSS-SEDE/PGF/AGU, recomendando estipulação de prazo de até 180 dias para conclusão da apuraçã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93" name="Retângulo 4"/>
          <p:cNvSpPr/>
          <p:nvPr/>
        </p:nvSpPr>
        <p:spPr>
          <a:xfrm>
            <a:off x="457200" y="1166760"/>
            <a:ext cx="8381880" cy="43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Motivação para publicação da Atual Resolu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Foi publicada então a Resolução nº 656/PRES/INSS, de 4 de setembro de 2018, que prevê bloqueio da margem até o final da apuração. Podendo a margem ficar bloqueada por até 180 dias, prorrogáveis por igual período mediante justificativ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66600" y="990720"/>
            <a:ext cx="900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Diretoria de Benefício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Coordenação – Geral de Gerenciamento do Pagamento de Benefícios - CGGPB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CaixaDeTexto 2"/>
          <p:cNvSpPr/>
          <p:nvPr/>
        </p:nvSpPr>
        <p:spPr>
          <a:xfrm>
            <a:off x="304920" y="3095640"/>
            <a:ext cx="7924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ALBERTO CARLOS FREITAS ALEG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Black"/>
              </a:rPr>
              <a:t>COORDENADOR –GERAL DE GERENCIAMENTO DO PAGAMENTO DE BENEFÍCI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alberto.alegre@inss.gov.b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66600" y="990720"/>
            <a:ext cx="900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Diretoria de Benefício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Coordenação – Geral de Gerenciamento do Pagamento de Benefícios - CGGPB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CaixaDeTexto 2"/>
          <p:cNvSpPr/>
          <p:nvPr/>
        </p:nvSpPr>
        <p:spPr>
          <a:xfrm>
            <a:off x="304920" y="309564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Regulamentação dos convênios celebrados com o INSS, preconizado pelo artigo nº 115 da Lei nº 8.213/91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85680" y="760320"/>
            <a:ext cx="9001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SimSun"/>
              </a:rPr>
              <a:t>LEGISLAÇÃ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228600" y="2133720"/>
            <a:ext cx="86868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Lei 8.213/9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Art. 115.  Podem ser descontados dos benefício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     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(...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V - mensalidades de associações e demais entidades de aposentados legalmente reconhecidas, desde que autorizadas por seus filiados.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71280" y="571680"/>
            <a:ext cx="90014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SimSun"/>
              </a:rPr>
              <a:t>OBJETIVO DOS ACORDOS DE COOPERAÇÃO TÉCNI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6600" y="990720"/>
            <a:ext cx="9001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Rectangle 2" descr=""/>
          <p:cNvPicPr/>
          <p:nvPr/>
        </p:nvPicPr>
        <p:blipFill>
          <a:blip r:embed="rId3"/>
          <a:stretch/>
        </p:blipFill>
        <p:spPr>
          <a:xfrm>
            <a:off x="0" y="1932120"/>
            <a:ext cx="9229680" cy="41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228600" y="1752480"/>
            <a:ext cx="86868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Atualmente 18 entidades estão conveniadas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A formalização de novos convênios estão condicionadas a entidades que possuem abrangência nacional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-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 Aproximadamente 2,75 milhões de benefícios com   descontos, com repasses de R$ 57,5 milhões mensal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-  Controle periódico dos 2.75 milhões benefícios que atualmente encontram-se com descontos de mensalidades associativa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tângulo 1"/>
          <p:cNvSpPr/>
          <p:nvPr/>
        </p:nvSpPr>
        <p:spPr>
          <a:xfrm>
            <a:off x="228600" y="990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SimSun"/>
              </a:rPr>
              <a:t>ACORDOS DE COOPERAÇÃO TÉCNI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96640"/>
            <a:ext cx="8229600" cy="15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SimSun"/>
              </a:rPr>
              <a:t>RECOMENDAÇÕES ÀS ENT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0040" y="152388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ivulgação do Acordo e seus anexos aos seus funcionários e sindicatos filiad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 formulário de autorização deve ser específico para este fim, não devendo utilizá-lo, por exemplo, para filiação de segurado ao sindicato ou para autorização de outros tipos de descont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entralização dos arquivos na sede das entidades conveniad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 flipV="1">
            <a:off x="1476360" y="2049120"/>
            <a:ext cx="360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SimSun"/>
              </a:rPr>
              <a:t>RECOMENDAÇÕES ÀS ENT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rganização dos arquivos de forma a permitir a rápida e eficaz localização das fichas na ordem solicitada pelo INS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ncaminhamento de arquivo à DATAPREV com solicitação de inclusão de novos descontos somente quando estiver de posse dos formulários de autorização assinados pelos segurad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47808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RECOMENDAÇÕES ÀS ENT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28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rientar seus funcionários e sindicatos filiados para a obrigatoriedade de que as autorizações sejam assinadas pelos titulares dos benefícios que autorizarão os descont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66600" y="990720"/>
            <a:ext cx="900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TIDADES ACORDANT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892160" y="1560600"/>
          <a:ext cx="5359680" cy="4605120"/>
        </p:xfrm>
        <a:graphic>
          <a:graphicData uri="http://schemas.openxmlformats.org/drawingml/2006/table">
            <a:tbl>
              <a:tblPr/>
              <a:tblGrid>
                <a:gridCol w="1155960"/>
                <a:gridCol w="2133360"/>
                <a:gridCol w="2070360"/>
              </a:tblGrid>
              <a:tr h="242640">
                <a:tc gridSpan="2"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IDADE DE CLAS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GÊNC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P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BAP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T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/20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20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B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TAPI/C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/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F/ FETRA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DNAP/F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0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DAP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0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DIAP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RJ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AMS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0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TF/CNTT/C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20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TRAAPI/C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20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AAM-BRAS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20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dos/MONGER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1:10:45Z</dcterms:created>
  <dc:creator>inss</dc:creator>
  <dc:description/>
  <dc:language>en-US</dc:language>
  <cp:lastModifiedBy>Silvana do Socorro Machado Rodrigues - MPS</cp:lastModifiedBy>
  <dcterms:modified xsi:type="dcterms:W3CDTF">2018-09-27T11:37:15Z</dcterms:modified>
  <cp:revision>95</cp:revision>
  <dc:subject/>
  <dc:title>Slide 1</dc:title>
</cp:coreProperties>
</file>